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E6895-7894-4D60-B02B-EB37F50D5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A2C75-89B2-4681-958A-CB023F34D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CF0C3-9C59-4105-A5F5-2A4D3EAD0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6083E-1E95-4125-9CBF-DB835B3EB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46FD1D-878E-44D6-A4D8-AC0FC6424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CDF7D7-0434-48C9-89A3-6FBADD8E0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5BB483-9054-4752-9B0D-A6962AC7A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B947E1-DFB6-4919-9F31-F3D441872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913243-6728-4EEE-9D39-A25E22F71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87BC41-7469-4003-8315-A8D8B6F79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69A488-F92A-4AD0-AEE2-28EA3E503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C34C0-0ED9-477E-A588-E4A163D5A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59C15B-642A-458A-BC70-140F0C216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0E1A19-E74B-49B7-923E-FFF2B4E6F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90D611-7C05-4F5F-9C72-CC40EE1AE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5A1CAF-8FCB-4D84-B9D6-D391C94A8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485D26-CCD2-4DBF-B75F-207BDBDC3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07BA8-9DD6-49A1-B570-1E05FD0C0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0BB10-A573-47C0-8BBC-04BABD2D2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62528-1872-49A1-8444-C5ED3C55E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D3FB5-CB83-4113-8ADB-036C70FA9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93362-BEE4-4682-9BEE-6984D259F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A06E3-BF63-4877-9118-80527566B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FEFB9-F230-405C-B8A7-3E287CD83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AAB6F-8048-4117-A38B-5C6806EDF0F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EFC0F-E7BD-47F4-A10B-82A8ACE882B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838080" y="3032280"/>
            <a:ext cx="7882200" cy="14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iner Hand ITC"/>
              </a:rPr>
              <a:t>If I had influence with the good fairy who is supposed to preside over the christening of all children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iner Hand ITC"/>
              </a:rPr>
              <a:t>I should ask that her gift to each child in the world be a </a:t>
            </a:r>
            <a:r>
              <a:rPr b="1" lang="en-US" sz="2000" spc="-1" strike="noStrike">
                <a:solidFill>
                  <a:srgbClr val="ffff00"/>
                </a:solidFill>
                <a:latin typeface="Viner Hand ITC"/>
              </a:rPr>
              <a:t>sense of wonder</a:t>
            </a:r>
            <a:r>
              <a:rPr b="1" lang="en-US" sz="1800" spc="-1" strike="noStrike">
                <a:solidFill>
                  <a:srgbClr val="ffffff"/>
                </a:solidFill>
                <a:latin typeface="Viner Hand ITC"/>
              </a:rPr>
              <a:t> so indestructible that it would last throughout life</a:t>
            </a:r>
            <a:r>
              <a:rPr b="0" lang="en-US" sz="1800" spc="-1" strike="noStrike">
                <a:solidFill>
                  <a:srgbClr val="ffffff"/>
                </a:solidFill>
                <a:latin typeface="Viner Hand ITC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iner Hand ITC"/>
              </a:rPr>
              <a:t>Rachel Cars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6858000" y="4267080"/>
            <a:ext cx="1811160" cy="24386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4191120" cy="26668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4"/>
          <a:stretch/>
        </p:blipFill>
        <p:spPr>
          <a:xfrm>
            <a:off x="228600" y="4495680"/>
            <a:ext cx="3962520" cy="20941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5"/>
          <a:stretch/>
        </p:blipFill>
        <p:spPr>
          <a:xfrm>
            <a:off x="4724280" y="228600"/>
            <a:ext cx="4038840" cy="269244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6"/>
          <a:stretch/>
        </p:blipFill>
        <p:spPr>
          <a:xfrm>
            <a:off x="4648320" y="4419720"/>
            <a:ext cx="167616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3T18:04:15Z</dcterms:created>
  <dc:creator>TechMedic</dc:creator>
  <dc:description/>
  <dc:language>en-US</dc:language>
  <cp:lastModifiedBy>TechMedic</cp:lastModifiedBy>
  <dcterms:modified xsi:type="dcterms:W3CDTF">2010-05-13T18:14:31Z</dcterms:modified>
  <cp:revision>2</cp:revision>
  <dc:subject/>
  <dc:title>Slide 1</dc:title>
</cp:coreProperties>
</file>